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97.jpeg" ContentType="image/jpeg"/>
  <Override PartName="/ppt/media/image34.wmf" ContentType="image/x-wmf"/>
  <Override PartName="/ppt/media/image33.jpeg" ContentType="image/jpeg"/>
  <Override PartName="/ppt/media/image32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9.png" ContentType="image/png"/>
  <Override PartName="/ppt/media/image3.jpeg" ContentType="image/jpeg"/>
  <Override PartName="/ppt/media/image37.jpeg" ContentType="image/jpeg"/>
  <Override PartName="/ppt/media/image52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51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84.jpeg" ContentType="image/jpeg"/>
  <Override PartName="/ppt/media/image31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14423-DEF2-4E9C-849D-8B0269561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74C64-7A6A-46A3-A4E2-F8C5CE29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0E1BC-EA74-4E4A-A298-673CD3FF7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E02E5-306F-4D15-A0BE-FBFA6524D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5D227-EF2A-4875-A5EC-F1FD6EAD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A9CB8-C746-4549-938F-6BCDB6F2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9DD9-41A8-42D4-89C2-1F9F56D5D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C2C2-752C-4072-B362-12AABD9BA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7795-2978-48FF-A373-2DDF6595E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7593-09C9-47E2-94B8-D453D0AB2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2D08-5D58-4FA4-872C-B9410558A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0B58-538F-4661-B9EA-34E882A84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4167-B650-4E84-8501-9C844AD29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CF44-E7B9-4B7A-80BC-4D7FC0456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EECB-2795-4300-B08F-D20D89453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628C-63B2-4F5E-8769-93C30A739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1249-8747-4D79-AAB6-19E27EC79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83BA-60B6-4F3B-BCCC-205CE9899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5EAAF-4754-4905-BC3F-5852F98CB1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1557360"/>
            <a:ext cx="61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EDICAL REHABILITATION OF AMPUT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81168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mputation is the removal or loss of all or part of the upper or low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2160" y="766800"/>
            <a:ext cx="93060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Assessment of patient's capacity for prosthetic fittin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l upper limb amputees are capable of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ge is a relative contraindication for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unctional assessment of other organ systems (cardiovascular system, respiratory syste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build (too obese and cachectic persons are not good candidates for prosthetic fit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9360" y="1901880"/>
            <a:ext cx="8578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motivation and willingness to coope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nta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adequate residual limb (inadequate length, shape, trophic changes, presence of neurinoma and hard adherent, painful scars make it unsuitable for prosthetic fitting, often requiring a reampu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968400"/>
            <a:ext cx="7920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prosthetic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ump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and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ercises for strengthening the muscles which initiate the residual limb movement, exercises for strengthening the muscles of the contralateral extremity and upp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intenance and increase of joint range mo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ait training with a temporary prosthesis (pyl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1000080"/>
            <a:ext cx="243828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360" y="187200"/>
            <a:ext cx="9044280" cy="73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oft dressing stump bandaging is applied to shrink and shape the stum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Bandaging starts after the suture removal, with the use of a special technique, applying more pressure on the distal part and less on the proximal part of the stum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his procedure helps to reduce local edema, prevent formation of adipose tissue, while applying pressure to the muscles causes atro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dequately shaped residual limb has a conic shape that allows for total  contact  within the socke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When a patient starts wearing a prosthesis, stump bandaging is performed when prosthesis is not us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4280" y="328680"/>
            <a:ext cx="931212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xerises for muscle strengthening are specially focused on the extensor muscles, because they are important for stable gait and good prosthesi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houlder girdle and trunk muscles are also strengthened, as well as pelvic stabiliz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temporary prosthesis (pylon) is used for maintenance and restoration of the motor pattern which enables faster mastering the gait with a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mmediately before and after taking the prosthesis off, attention should be paid to the local stump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566640"/>
            <a:ext cx="56512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itially the gait is practiced within parallel b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hen in the frontal and saggital plane with a step forward, then gait with crutches and overcoming smaller architectural barri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loor-ris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59704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160" y="1120680"/>
            <a:ext cx="914724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rts with the delivery of the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t includes the last phase of training in proper donning/doffing the prosthesis, its maintenance a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efinite prosthesis is biomechanically adjusted to the patient: to provide maximum function, to be used with the least energy cost, to provide comfort and be aesthetically accep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3440" y="1668600"/>
            <a:ext cx="889488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upper-limb pediatric amputations, the first prosthesis is applied when the infants start actively to 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lower-limb amputatins, when the infants enters the last phase of vertical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32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aluation of the achieved level of functional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83360" y="3503520"/>
            <a:ext cx="3429000" cy="2741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7080" y="13064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erformed by a multidisciplinary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the achieved level of functional capac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pros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Functanionality in activities of dai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work capac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8040" y="2192400"/>
            <a:ext cx="3673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REA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2192400"/>
            <a:ext cx="37450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RU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70240" y="5005440"/>
            <a:ext cx="55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HOES AND INS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70240" y="57070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LING 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78160" y="638280"/>
            <a:ext cx="429732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5280" y="730080"/>
            <a:ext cx="48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HESES AND ORTH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598760"/>
            <a:ext cx="339480" cy="533160"/>
          </a:xfrm>
          <a:prstGeom prst="downArrow">
            <a:avLst>
              <a:gd name="adj1" fmla="val 50000"/>
              <a:gd name="adj2" fmla="val 39263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92840" y="1598760"/>
            <a:ext cx="339840" cy="533160"/>
          </a:xfrm>
          <a:prstGeom prst="downArrow">
            <a:avLst>
              <a:gd name="adj1" fmla="val 50000"/>
              <a:gd name="adj2" fmla="val 3922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51240" y="1627200"/>
            <a:ext cx="393840" cy="3384360"/>
          </a:xfrm>
          <a:prstGeom prst="downArrow">
            <a:avLst>
              <a:gd name="adj1" fmla="val 50000"/>
              <a:gd name="adj2" fmla="val 21483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94932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Reas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aumatic amputations caused by traffic accidents and work-related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ngenital anomalies in childr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hological bone conditions (tum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angre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hanges caused by vascular diseases (M. Buerger, arteriosclerosis, embol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abolic diseases with vascular complications (diabetic angiopat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73120" y="331920"/>
            <a:ext cx="6056280" cy="11080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9120" y="619200"/>
            <a:ext cx="59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480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78240" y="5784840"/>
            <a:ext cx="245880" cy="309600"/>
          </a:xfrm>
          <a:custGeom>
            <a:avLst/>
            <a:gdLst>
              <a:gd name="textAreaLeft" fmla="*/ 37800 w 245880"/>
              <a:gd name="textAreaRight" fmla="*/ 208080 w 245880"/>
              <a:gd name="textAreaTop" fmla="*/ 47520 h 309600"/>
              <a:gd name="textAreaBottom" fmla="*/ 262080 h 3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78240" y="6043680"/>
            <a:ext cx="245880" cy="431640"/>
          </a:xfrm>
          <a:prstGeom prst="downArrow">
            <a:avLst>
              <a:gd name="adj1" fmla="val 50000"/>
              <a:gd name="adj2" fmla="val 4388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440" y="1825560"/>
            <a:ext cx="1403280" cy="4726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99000" y="5854680"/>
            <a:ext cx="285840" cy="620640"/>
          </a:xfrm>
          <a:prstGeom prst="downArrow">
            <a:avLst>
              <a:gd name="adj1" fmla="val 50000"/>
              <a:gd name="adj2" fmla="val 5428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99000" y="5618160"/>
            <a:ext cx="285840" cy="24768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2640" y="5140440"/>
            <a:ext cx="396720" cy="496800"/>
          </a:xfrm>
          <a:custGeom>
            <a:avLst/>
            <a:gdLst>
              <a:gd name="textAreaLeft" fmla="*/ 60840 w 396720"/>
              <a:gd name="textAreaRight" fmla="*/ 335880 w 396720"/>
              <a:gd name="textAreaTop" fmla="*/ 76320 h 496800"/>
              <a:gd name="textAreaBottom" fmla="*/ 42048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72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92880" y="5637240"/>
            <a:ext cx="328680" cy="762120"/>
          </a:xfrm>
          <a:prstGeom prst="downArrow">
            <a:avLst>
              <a:gd name="adj1" fmla="val 50000"/>
              <a:gd name="adj2" fmla="val 5796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5408640"/>
            <a:ext cx="328680" cy="25380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75520" y="4417920"/>
            <a:ext cx="649080" cy="368280"/>
          </a:xfrm>
          <a:custGeom>
            <a:avLst/>
            <a:gdLst>
              <a:gd name="textAreaLeft" fmla="*/ 106560 w 649080"/>
              <a:gd name="textAreaRight" fmla="*/ 542520 w 649080"/>
              <a:gd name="textAreaTop" fmla="*/ 60480 h 368280"/>
              <a:gd name="textAreaBottom" fmla="*/ 30780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51560" y="4799160"/>
            <a:ext cx="203400" cy="60948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60520" y="-1440"/>
            <a:ext cx="5991120" cy="10666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319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0920" y="1666800"/>
            <a:ext cx="39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tib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1662120"/>
            <a:ext cx="40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rot="1260000">
            <a:off x="2991960" y="917640"/>
            <a:ext cx="263520" cy="677880"/>
          </a:xfrm>
          <a:prstGeom prst="downArrow">
            <a:avLst>
              <a:gd name="adj1" fmla="val 50000"/>
              <a:gd name="adj2" fmla="val 64310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20000">
            <a:off x="5537160" y="953640"/>
            <a:ext cx="252360" cy="685800"/>
          </a:xfrm>
          <a:prstGeom prst="downArrow">
            <a:avLst>
              <a:gd name="adj1" fmla="val 50000"/>
              <a:gd name="adj2" fmla="val 67939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38240" y="2817720"/>
            <a:ext cx="1109880" cy="373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16160" y="5707080"/>
            <a:ext cx="222120" cy="311040"/>
          </a:xfrm>
          <a:custGeom>
            <a:avLst/>
            <a:gdLst>
              <a:gd name="textAreaLeft" fmla="*/ 34200 w 222120"/>
              <a:gd name="textAreaRight" fmla="*/ 187920 w 222120"/>
              <a:gd name="textAreaTop" fmla="*/ 47880 h 311040"/>
              <a:gd name="textAreaBottom" fmla="*/ 263160 h 31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16160" y="6040440"/>
            <a:ext cx="222120" cy="434880"/>
          </a:xfrm>
          <a:prstGeom prst="downArrow">
            <a:avLst>
              <a:gd name="adj1" fmla="val 50000"/>
              <a:gd name="adj2" fmla="val 4894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27840" y="281772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07080" y="5853240"/>
            <a:ext cx="257400" cy="622080"/>
          </a:xfrm>
          <a:prstGeom prst="downArrow">
            <a:avLst>
              <a:gd name="adj1" fmla="val 50000"/>
              <a:gd name="adj2" fmla="val 6042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07080" y="5616720"/>
            <a:ext cx="25740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70720" y="5138640"/>
            <a:ext cx="357120" cy="498600"/>
          </a:xfrm>
          <a:custGeom>
            <a:avLst/>
            <a:gdLst>
              <a:gd name="textAreaLeft" fmla="*/ 54720 w 357120"/>
              <a:gd name="textAreaRight" fmla="*/ 302400 w 357120"/>
              <a:gd name="textAreaTop" fmla="*/ 76680 h 498600"/>
              <a:gd name="textAreaBottom" fmla="*/ 42192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67760" y="277956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61400" y="5815080"/>
            <a:ext cx="258840" cy="622080"/>
          </a:xfrm>
          <a:prstGeom prst="downArrow">
            <a:avLst>
              <a:gd name="adj1" fmla="val 50000"/>
              <a:gd name="adj2" fmla="val 6008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61400" y="5578560"/>
            <a:ext cx="25884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56640" y="4795920"/>
            <a:ext cx="512640" cy="360360"/>
          </a:xfrm>
          <a:custGeom>
            <a:avLst/>
            <a:gdLst>
              <a:gd name="textAreaLeft" fmla="*/ 84240 w 512640"/>
              <a:gd name="textAreaRight" fmla="*/ 428400 w 512640"/>
              <a:gd name="textAreaTop" fmla="*/ 59040 h 360360"/>
              <a:gd name="textAreaBottom" fmla="*/ 301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9440" y="5156280"/>
            <a:ext cx="127080" cy="43164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11955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SKELETAL AND EX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93920" y="272880"/>
            <a:ext cx="465444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74840"/>
            <a:ext cx="504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00240" y="1827360"/>
            <a:ext cx="2116080" cy="4647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49720" y="1827360"/>
            <a:ext cx="233388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7000" y="347760"/>
            <a:ext cx="43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03640" y="114156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20960" y="331920"/>
            <a:ext cx="5303880" cy="6728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51040" y="47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53960" y="1827360"/>
            <a:ext cx="289584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827360"/>
            <a:ext cx="2844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03640" y="11415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11320" y="303120"/>
            <a:ext cx="4846680" cy="701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1320" y="455760"/>
            <a:ext cx="54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12720" y="1751040"/>
            <a:ext cx="2889360" cy="457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86280" y="1751040"/>
            <a:ext cx="2835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8120" y="119376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11320" y="257040"/>
            <a:ext cx="5211720" cy="7462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95520" y="360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1697040"/>
            <a:ext cx="2624040" cy="374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9608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7512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79560" y="2057400"/>
            <a:ext cx="22561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51040" y="119556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4520" y="1698480"/>
            <a:ext cx="2940120" cy="482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60680" y="1698480"/>
            <a:ext cx="2974680" cy="482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36640" y="272880"/>
            <a:ext cx="502920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1320" y="365040"/>
            <a:ext cx="438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6640" y="1195560"/>
            <a:ext cx="62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GH CORSET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5200" y="258840"/>
            <a:ext cx="5486400" cy="836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4560" y="403200"/>
            <a:ext cx="57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62240" y="1771560"/>
            <a:ext cx="28116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08080" y="18576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6640" y="3301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97000" y="11224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OSKELETAL AND END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92400" y="1770120"/>
            <a:ext cx="31053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78160" y="119160"/>
            <a:ext cx="466416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714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5240" y="982800"/>
            <a:ext cx="63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 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32160" y="1522440"/>
            <a:ext cx="2067120" cy="495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492960" y="1598760"/>
            <a:ext cx="2379600" cy="487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69960" y="1522440"/>
            <a:ext cx="1565280" cy="49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432160" y="1522440"/>
            <a:ext cx="1631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225440"/>
            <a:ext cx="749016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y limb amputation not only is considered as a physical injury, but is also followed by  psychological and professional da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imb loss may alter one's integrity and body scheme, cause mobility problems and poor performance of daily manual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rehabilitation includes: medical, social and professional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93840" y="195120"/>
            <a:ext cx="5029200" cy="809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03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35240" y="1058760"/>
            <a:ext cx="62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2880" y="167472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99120" y="167472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77880" y="105084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IP DISARTICULATION AND HEMIPELVEC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78160" y="18720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331920"/>
            <a:ext cx="51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89400" y="2131920"/>
            <a:ext cx="2327400" cy="4532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724120" y="2131920"/>
            <a:ext cx="1143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838080"/>
            <a:ext cx="71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S OF UPPER LIMB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3880" y="1785960"/>
            <a:ext cx="2049480" cy="4738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44960" y="29304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HUM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44960" y="47592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4960" y="232092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ER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187956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SCA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4960" y="384480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BOW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44960" y="52927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DIO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44960" y="56736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4960" y="607068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PHALANG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7800" y="304920"/>
            <a:ext cx="1830240" cy="1828800"/>
          </a:xfrm>
          <a:prstGeom prst="wedgeRoundRectCallout">
            <a:avLst>
              <a:gd name="adj1" fmla="val 81087"/>
              <a:gd name="adj2" fmla="val 91754"/>
              <a:gd name="adj3" fmla="val 16667"/>
            </a:avLst>
          </a:prstGeom>
          <a:solidFill>
            <a:srgbClr val="00ff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9840" y="228600"/>
            <a:ext cx="1970280" cy="1676520"/>
          </a:xfrm>
          <a:prstGeom prst="wedgeRoundRectCallout">
            <a:avLst>
              <a:gd name="adj1" fmla="val -24555"/>
              <a:gd name="adj2" fmla="val 96305"/>
              <a:gd name="adj3" fmla="val 16667"/>
            </a:avLst>
          </a:prstGeom>
          <a:solidFill>
            <a:srgbClr val="99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LAS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O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00" y="4343400"/>
            <a:ext cx="2743200" cy="1600200"/>
          </a:xfrm>
          <a:prstGeom prst="wedgeEllipseCallout">
            <a:avLst>
              <a:gd name="adj1" fmla="val 54805"/>
              <a:gd name="adj2" fmla="val -62402"/>
            </a:avLst>
          </a:prstGeom>
          <a:solidFill>
            <a:srgbClr val="ff66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AND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7280" y="380880"/>
            <a:ext cx="2673360" cy="1143000"/>
          </a:xfrm>
          <a:prstGeom prst="cloudCallout">
            <a:avLst>
              <a:gd name="adj1" fmla="val -56907"/>
              <a:gd name="adj2" fmla="val 152777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FE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29040" y="5013360"/>
            <a:ext cx="2687400" cy="1616040"/>
          </a:xfrm>
          <a:prstGeom prst="wedgeEllipseCallout">
            <a:avLst>
              <a:gd name="adj1" fmla="val 5972"/>
              <a:gd name="adj2" fmla="val -87916"/>
            </a:avLst>
          </a:prstGeom>
          <a:solidFill>
            <a:srgbClr val="00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EX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OMMUNIC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4560" y="4664160"/>
            <a:ext cx="2378160" cy="1098360"/>
          </a:xfrm>
          <a:prstGeom prst="wedgeRoundRectCallout">
            <a:avLst>
              <a:gd name="adj1" fmla="val -69629"/>
              <a:gd name="adj2" fmla="val -110699"/>
              <a:gd name="adj3" fmla="val 16667"/>
            </a:avLst>
          </a:prstGeom>
          <a:solidFill>
            <a:srgbClr val="ffcc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RESEMB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A 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HAND</a:t>
            </a:r>
            <a:r>
              <a:rPr b="0" lang="sl-SI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0" y="2743200"/>
            <a:ext cx="2973600" cy="1481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8160" y="1447920"/>
            <a:ext cx="1268280" cy="1030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19080" y="1797120"/>
            <a:ext cx="1476360" cy="92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461360" y="1371600"/>
            <a:ext cx="1338120" cy="1225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988920" y="5486400"/>
            <a:ext cx="1406520" cy="101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070600" y="4267080"/>
            <a:ext cx="1266840" cy="1030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6640" y="5334120"/>
            <a:ext cx="2181240" cy="1447560"/>
          </a:xfrm>
          <a:custGeom>
            <a:avLst/>
            <a:gdLst>
              <a:gd name="textAreaLeft" fmla="*/ 319320 w 2181240"/>
              <a:gd name="textAreaRight" fmla="*/ 1861920 w 218124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181" y="10800"/>
                </a:moveTo>
                <a:cubicBezTo>
                  <a:pt x="4181" y="14456"/>
                  <a:pt x="7144" y="17419"/>
                  <a:pt x="10800" y="17419"/>
                </a:cubicBezTo>
                <a:cubicBezTo>
                  <a:pt x="14456" y="17419"/>
                  <a:pt x="17419" y="14456"/>
                  <a:pt x="17419" y="10800"/>
                </a:cubicBezTo>
                <a:cubicBezTo>
                  <a:pt x="17419" y="7144"/>
                  <a:pt x="14456" y="4181"/>
                  <a:pt x="10800" y="4181"/>
                </a:cubicBezTo>
                <a:cubicBezTo>
                  <a:pt x="7144" y="4181"/>
                  <a:pt x="4181" y="7144"/>
                  <a:pt x="4181" y="10800"/>
                </a:cubicBezTo>
                <a:close/>
              </a:path>
            </a:pathLst>
          </a:custGeom>
          <a:solidFill>
            <a:srgbClr val="ff66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6480" y="1600200"/>
            <a:ext cx="2041560" cy="1371600"/>
          </a:xfrm>
          <a:custGeom>
            <a:avLst/>
            <a:gdLst>
              <a:gd name="textAreaLeft" fmla="*/ 298800 w 2041560"/>
              <a:gd name="textAreaRight" fmla="*/ 1742760 w 2041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09" y="10800"/>
                </a:moveTo>
                <a:cubicBezTo>
                  <a:pt x="3709" y="14716"/>
                  <a:pt x="6884" y="17891"/>
                  <a:pt x="10800" y="17891"/>
                </a:cubicBezTo>
                <a:cubicBezTo>
                  <a:pt x="14716" y="17891"/>
                  <a:pt x="17891" y="14716"/>
                  <a:pt x="17891" y="10800"/>
                </a:cubicBezTo>
                <a:cubicBezTo>
                  <a:pt x="17891" y="6884"/>
                  <a:pt x="14716" y="3709"/>
                  <a:pt x="10800" y="3709"/>
                </a:cubicBezTo>
                <a:cubicBezTo>
                  <a:pt x="6884" y="3709"/>
                  <a:pt x="3709" y="6884"/>
                  <a:pt x="3709" y="10800"/>
                </a:cubicBezTo>
                <a:close/>
              </a:path>
            </a:pathLst>
          </a:custGeom>
          <a:solidFill>
            <a:srgbClr val="00ff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6040" y="1292400"/>
            <a:ext cx="2251080" cy="1371600"/>
          </a:xfrm>
          <a:custGeom>
            <a:avLst/>
            <a:gdLst>
              <a:gd name="textAreaLeft" fmla="*/ 329400 w 2251080"/>
              <a:gd name="textAreaRight" fmla="*/ 1921680 w 225108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669" y="10800"/>
                </a:moveTo>
                <a:cubicBezTo>
                  <a:pt x="4669" y="14186"/>
                  <a:pt x="7414" y="16931"/>
                  <a:pt x="10800" y="16931"/>
                </a:cubicBezTo>
                <a:cubicBezTo>
                  <a:pt x="14186" y="16931"/>
                  <a:pt x="16931" y="14186"/>
                  <a:pt x="16931" y="10800"/>
                </a:cubicBezTo>
                <a:cubicBezTo>
                  <a:pt x="16931" y="7414"/>
                  <a:pt x="14186" y="4669"/>
                  <a:pt x="10800" y="4669"/>
                </a:cubicBezTo>
                <a:cubicBezTo>
                  <a:pt x="7414" y="4669"/>
                  <a:pt x="4669" y="7414"/>
                  <a:pt x="4669" y="10800"/>
                </a:cubicBezTo>
                <a:close/>
              </a:path>
            </a:pathLst>
          </a:custGeom>
          <a:solidFill>
            <a:srgbClr val="66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10360" y="1143000"/>
            <a:ext cx="2040120" cy="1676520"/>
          </a:xfrm>
          <a:custGeom>
            <a:avLst/>
            <a:gdLst>
              <a:gd name="textAreaLeft" fmla="*/ 298440 w 2040120"/>
              <a:gd name="textAreaRight" fmla="*/ 1741680 w 204012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39" y="10800"/>
                </a:moveTo>
                <a:cubicBezTo>
                  <a:pt x="3439" y="14865"/>
                  <a:pt x="6735" y="18161"/>
                  <a:pt x="10800" y="18161"/>
                </a:cubicBezTo>
                <a:cubicBezTo>
                  <a:pt x="14865" y="18161"/>
                  <a:pt x="18161" y="14865"/>
                  <a:pt x="18161" y="10800"/>
                </a:cubicBezTo>
                <a:cubicBezTo>
                  <a:pt x="18161" y="6735"/>
                  <a:pt x="14865" y="3439"/>
                  <a:pt x="10800" y="3439"/>
                </a:cubicBezTo>
                <a:cubicBezTo>
                  <a:pt x="6735" y="3439"/>
                  <a:pt x="3439" y="6735"/>
                  <a:pt x="3439" y="10800"/>
                </a:cubicBezTo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114800"/>
            <a:ext cx="2039760" cy="1295280"/>
          </a:xfrm>
          <a:custGeom>
            <a:avLst/>
            <a:gdLst>
              <a:gd name="textAreaLeft" fmla="*/ 298440 w 2039760"/>
              <a:gd name="textAreaRight" fmla="*/ 1741320 w 203976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097" y="10800"/>
                </a:moveTo>
                <a:cubicBezTo>
                  <a:pt x="4097" y="14502"/>
                  <a:pt x="7098" y="17503"/>
                  <a:pt x="10800" y="17503"/>
                </a:cubicBezTo>
                <a:cubicBezTo>
                  <a:pt x="14502" y="17503"/>
                  <a:pt x="17503" y="14502"/>
                  <a:pt x="17503" y="10800"/>
                </a:cubicBezTo>
                <a:cubicBezTo>
                  <a:pt x="17503" y="7098"/>
                  <a:pt x="14502" y="4097"/>
                  <a:pt x="10800" y="4097"/>
                </a:cubicBezTo>
                <a:cubicBezTo>
                  <a:pt x="7098" y="4097"/>
                  <a:pt x="4097" y="7098"/>
                  <a:pt x="4097" y="10800"/>
                </a:cubicBezTo>
                <a:close/>
              </a:path>
            </a:pathLst>
          </a:custGeom>
          <a:solidFill>
            <a:srgbClr val="00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7321680" y="5791320"/>
            <a:ext cx="1266840" cy="83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040520" y="5562720"/>
            <a:ext cx="1828800" cy="12189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8200 h 1218960"/>
              <a:gd name="textAreaBottom" fmla="*/ 1040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05" y="10800"/>
                </a:moveTo>
                <a:cubicBezTo>
                  <a:pt x="3305" y="14939"/>
                  <a:pt x="6661" y="18295"/>
                  <a:pt x="10800" y="18295"/>
                </a:cubicBezTo>
                <a:cubicBezTo>
                  <a:pt x="14939" y="18295"/>
                  <a:pt x="18295" y="14939"/>
                  <a:pt x="18295" y="10800"/>
                </a:cubicBezTo>
                <a:cubicBezTo>
                  <a:pt x="18295" y="6661"/>
                  <a:pt x="14939" y="3305"/>
                  <a:pt x="10800" y="3305"/>
                </a:cubicBezTo>
                <a:cubicBezTo>
                  <a:pt x="6661" y="3305"/>
                  <a:pt x="3305" y="6661"/>
                  <a:pt x="3305" y="10800"/>
                </a:cubicBezTo>
                <a:close/>
              </a:path>
            </a:pathLst>
          </a:custGeom>
          <a:solidFill>
            <a:srgbClr val="ffcc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5680" y="3048120"/>
            <a:ext cx="2814480" cy="914400"/>
          </a:xfrm>
          <a:prstGeom prst="rightArrow">
            <a:avLst>
              <a:gd name="adj1" fmla="val 50000"/>
              <a:gd name="adj2" fmla="val 76949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7120" y="3305160"/>
            <a:ext cx="226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UMAN H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514600"/>
            <a:ext cx="3164040" cy="1676520"/>
          </a:xfrm>
          <a:prstGeom prst="leftArrow">
            <a:avLst>
              <a:gd name="adj1" fmla="val 50000"/>
              <a:gd name="adj2" fmla="val 47182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440" y="3031560"/>
            <a:ext cx="30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MULTIFUNCTION MOTOR AND SENSORY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84360" y="49536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UPPER LIMB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1160" y="2803680"/>
            <a:ext cx="769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CORDING TO THE EUROPEAN RECOMMENDATIONS PROSTHESES CALSSIFICATION IS AS FOLL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E,  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ASSIVE,  BODY POWERED, AFFECTED BY GRAVITY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1960" y="4222800"/>
            <a:ext cx="478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TYPES OF PROSTHE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ITY-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40" y="150012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 ACCORDING TO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28440" y="18813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080" y="226224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OF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6000" y="9144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ORARY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" y="1554120"/>
            <a:ext cx="858348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ED ONLY IN BELOW-ELBOW AMPUTATIONS. THEIR ROLE IS TO ENABLE THE PATIENT TO GET FAMILIAR WITH A PROSTHESIS AND ITS FUNCTIONS WITH BASIC TRAINING IN THE USE, AS WELL AS SHAPING THE RESIDUAL LIMB AND STIMULATION OF THE SOFT-TISSUE INVOLUTIO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MAY COME WITHOUT MECHANICAL COMMAND WITH TERMINAL ENDINGS (EATING UTENSILS, VARIOUS TOOLS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CAN COME WITH MECHANICAL COMMAND AND ACTIVE TERMINAL DEVICE (HO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BILATERAL BELOW-ELBOW AMPUTATION, A COMBINATION OF BOTH TYPES IS APPLIED, BUT ATTENTION IS PAID TO THE DOMINANT HAND OR LONGER RESIDUAL LI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95560" y="782640"/>
            <a:ext cx="3195360" cy="2593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997520" y="762120"/>
            <a:ext cx="3235320" cy="2627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90400" y="3429000"/>
            <a:ext cx="1971720" cy="3276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629160" y="3427560"/>
            <a:ext cx="1888920" cy="3270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488280" y="3427560"/>
            <a:ext cx="20332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58720" y="771480"/>
            <a:ext cx="422136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TANDARD - 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AL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IGHT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ELECTION OF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COSMETIC APPE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52680" y="128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OSMETIC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25880" y="771480"/>
            <a:ext cx="401004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USTOM M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DISTA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NO READY-MADE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NUMBER OF PRODUC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Y GOOD APPEA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125800" cy="2781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3440" y="3886200"/>
            <a:ext cx="38563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315200" y="363600"/>
            <a:ext cx="1409760" cy="24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52440" y="703440"/>
            <a:ext cx="3065400" cy="2116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887640" y="723960"/>
            <a:ext cx="2936880" cy="2095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06360" y="3429000"/>
            <a:ext cx="4056120" cy="287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4643280" y="3436920"/>
            <a:ext cx="415152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04880" y="2217600"/>
            <a:ext cx="4149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ABLE OPER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RIST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LBOW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35120" y="811080"/>
            <a:ext cx="40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ECHANICAL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35400" y="1461960"/>
            <a:ext cx="3272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795240"/>
            <a:ext cx="85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dical rehabilitation consists of several pha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amputatio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mpu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amputation ph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ssessment of patient's capacity for prosthetic f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2440" y="25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80080" y="404640"/>
            <a:ext cx="3084480" cy="5302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44560" y="360360"/>
            <a:ext cx="4573440" cy="61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ABLE-OP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mploy a cable to transmit the body motion from a proximal segment to the prosthetic end- eff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Good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apid direc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i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ngl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i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eemly appearance in som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0960" y="3193920"/>
            <a:ext cx="449280" cy="551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30040" y="533232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52440" y="16992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368280"/>
            <a:ext cx="52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MANDA PREKO RUČNOG ZGL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14400" y="84132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91160" y="841320"/>
            <a:ext cx="3752640" cy="276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914400" y="366084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691160" y="3660840"/>
            <a:ext cx="37526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3560" y="2276640"/>
            <a:ext cx="3808440" cy="203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15000" y="1916280"/>
            <a:ext cx="4200480" cy="322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62040" y="106668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BOW-DRIVEN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22480" y="2205000"/>
            <a:ext cx="5246640" cy="3040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28880" y="1295280"/>
            <a:ext cx="27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52440" y="-2271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66840" y="284040"/>
            <a:ext cx="3448080" cy="2506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4760" y="763560"/>
            <a:ext cx="19699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18400" y="2744640"/>
            <a:ext cx="1993680" cy="3176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79640" y="3022560"/>
            <a:ext cx="256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pi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isk of 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25440" y="373536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71520" y="5094360"/>
            <a:ext cx="4032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85520" y="1355760"/>
            <a:ext cx="439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 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t can be combined with a pros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348000" y="2955960"/>
            <a:ext cx="2774880" cy="3749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46720" y="289080"/>
            <a:ext cx="3649680" cy="3541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1096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30040" y="31240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52440" y="466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35400" y="1660680"/>
            <a:ext cx="253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 CO</a:t>
            </a:r>
            <a:r>
              <a:rPr b="1" lang="sl-S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7160" y="835200"/>
            <a:ext cx="62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XTERNALLY POWERED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854600" y="2793960"/>
            <a:ext cx="3989520" cy="2884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36680" y="166068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52440" y="2768760"/>
            <a:ext cx="394020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119320" y="1355760"/>
            <a:ext cx="51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IPOLAR SKIN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1120" y="2514600"/>
            <a:ext cx="2814840" cy="2714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095640" y="1981080"/>
            <a:ext cx="5981760" cy="4370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701800" y="811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YO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85680" y="1008000"/>
            <a:ext cx="3306960" cy="2381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95720" y="950760"/>
            <a:ext cx="3799080" cy="2776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14400" y="2430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MG-BASED MOVEMENT CONTROL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18000" y="30492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YOBOY OTTO-B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985680" y="3541680"/>
            <a:ext cx="4221360" cy="3056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699160" y="3884760"/>
            <a:ext cx="28144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2976480" cy="2183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44560" y="3971880"/>
            <a:ext cx="2884320" cy="2343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573440" y="787320"/>
            <a:ext cx="2013120" cy="3505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081320" y="4341960"/>
            <a:ext cx="2532240" cy="2400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6754680" y="1371600"/>
            <a:ext cx="2246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200" y="936720"/>
            <a:ext cx="8793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eamputation phase of 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conducted if there is enough time left for psychophysical preparation of the patient considering their primary disease or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ime in the preoperative phase should be used for improving the patient's general condition, using exercises for strengthening of the upper and lower musculature, and general conditioning exerc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98560" y="1697040"/>
            <a:ext cx="50655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LEVEL OF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RELATIVELY GOOD AESTH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BATTERY, EASY FOR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ITHOUT SHOULDER SUSP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INDIRECT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48160" y="260280"/>
            <a:ext cx="3687840" cy="6048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49120" y="40384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4360" y="289080"/>
            <a:ext cx="79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CTIVITY-SPECIFIC PROSTHESES - MULTIFUN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2800" y="870120"/>
            <a:ext cx="3683160" cy="2674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863960" y="930240"/>
            <a:ext cx="3719520" cy="2622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28760" y="3792600"/>
            <a:ext cx="3722400" cy="2684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643280" y="3894120"/>
            <a:ext cx="408168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81160" y="511200"/>
            <a:ext cx="2728800" cy="2216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216240" y="498600"/>
            <a:ext cx="2763720" cy="2244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191280" y="520560"/>
            <a:ext cx="2744640" cy="2229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298440" y="3352680"/>
            <a:ext cx="3782880" cy="3067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292640" y="3359160"/>
            <a:ext cx="457344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73980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HYBRI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73280" y="1600200"/>
            <a:ext cx="2814480" cy="468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336920" y="1600200"/>
            <a:ext cx="4035600" cy="4648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969920" y="1752480"/>
            <a:ext cx="492120" cy="152640"/>
          </a:xfrm>
          <a:prstGeom prst="rect">
            <a:avLst/>
          </a:prstGeom>
          <a:solidFill>
            <a:srgbClr val="0000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73360" cy="2111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2428920" cy="3527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094520" y="0"/>
            <a:ext cx="2049480" cy="338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516720" y="3718080"/>
            <a:ext cx="2281320" cy="3139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826920" y="2549520"/>
            <a:ext cx="2711520" cy="4308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140360" y="3645000"/>
            <a:ext cx="188244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06680" cy="3865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03236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451400" y="2711520"/>
            <a:ext cx="4441680" cy="3894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8034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669960"/>
            <a:ext cx="820908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Amputation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hod, type and technique of amputation lie within the domain of surge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ump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32280" y="2936880"/>
            <a:ext cx="51195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25560"/>
            <a:ext cx="8604360" cy="67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Postamputation ph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arts as soon as the first day after an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medical issues connected with the patient's previous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occurrence of hem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wound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velopment of gangr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ocally disturbed blood flow may lead to the development of stump 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mmobility in elderly patients may lead to bronchopneumonia, urinary infections, disorders of peripheral circulation of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240" y="957240"/>
            <a:ext cx="9109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 active movement is of great importance and contracture prevention is most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above-knee stump shows tendency towards flexion and abduction contracture because of the position of muscle attachments, inactivity and prolonged sitting- patients should be warned to avoid prolonged sitting at the edge of the bed because it leads to shortening of the flexor muscles, which hinders further prosthetic fi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orrective position: the below-knee stump should be kept in extension; the above-knee stump should be in extension and adduction, with a preferred pronatory trunk position. The below-knee stump is fixed in full knee ex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730520"/>
            <a:ext cx="813744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 above-elbow amputation requires prevention of adduction contracture of the shoulder joint by placing a pillow under the armp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Phantom sensation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usually lost after six months from amputation when a new body scheme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m </cp:lastModifiedBy>
  <dcterms:modified xsi:type="dcterms:W3CDTF">2023-09-27T14:26:32Z</dcterms:modified>
  <cp:revision>79</cp:revision>
  <dc:subject/>
  <dc:title>MEHANOTERAPIJA</dc:title>
</cp:coreProperties>
</file>